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10-6CD6-4C92-9407-EB09458F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152-79CA-46D1-AE9D-4AFEEBC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8BD-55A7-479E-9828-041E24F2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331-7A74-4713-AE16-01FCD86F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0C1-6EF9-401A-B0F9-8E64E9CE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82F-3C1D-43FD-9379-720CEBF4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042-5773-4C4C-97C8-C8FA9E2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A8D-EF71-439F-950C-58BE8FC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8A8-74C6-47BC-866A-337787F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A01-0DE7-44E9-8490-83782335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9B6-7683-4BAE-A2EF-58BE95C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55B-2FA0-4E2F-9625-C2388960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CBBA-B7E0-4D84-903F-24D84202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usa/statesbw/cal.s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nchantedlearning.com/usa/states/california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law.ou.edu/hist/flags/stflagalmo.shtml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ostcardsfrom.com/t1/990610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teveperrygems.com/gems/benito.ht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5029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ryn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1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2749680" cy="149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6095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4114800"/>
            <a:ext cx="4876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State S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/10/12, www.50st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: Sac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 33,871,6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ed the Union: September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850. Also, 3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Eureka, I have foun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: The Golde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er: The Golden Po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: The California Valley Qu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: I love you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behind name: Named by the Spanish after “Califa” a mythical paradise in Spanish romance. Written by Montalvo in 15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19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F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477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ities: Los Angeles, San Diego, San Jose, San Francisco, and Long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ree: California Red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 or Gemstone: Benit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: Native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or Stone: Serpen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is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ggest state. Texas and Alaska are b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for the residents is: The Califor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3865320" cy="42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18148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hanted Learnin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nchantedlearning.com/usa/states/californi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724280" y="914400"/>
            <a:ext cx="3962520" cy="289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81480" y="5105520"/>
            <a:ext cx="3733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s, Fla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aw.ou.edu/hist/flags/stflagalmo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4267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Fl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648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M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All images Copyright © 1997 - 2000 WriteLine. All Rights Reserved. Golden Gate Bridge"/>
          <p:cNvPicPr/>
          <p:nvPr/>
        </p:nvPicPr>
        <p:blipFill>
          <a:blip r:embed="rId1"/>
          <a:stretch/>
        </p:blipFill>
        <p:spPr>
          <a:xfrm>
            <a:off x="152280" y="457200"/>
            <a:ext cx="510552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257800"/>
            <a:ext cx="4267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cards fro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lden Gate Bri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stcardsfrom.com/t1/9906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sty winds of the Golden Gate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10080" y="533520"/>
            <a:ext cx="3353040" cy="327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520" y="5562720"/>
            <a:ext cx="3886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PerryGem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ito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eveperrygems.com/gems/benit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5720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California’s main gem or gemstone called the Benito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California Valley Quail"/>
          <p:cNvPicPr/>
          <p:nvPr/>
        </p:nvPicPr>
        <p:blipFill>
          <a:blip r:embed="rId1"/>
          <a:stretch/>
        </p:blipFill>
        <p:spPr>
          <a:xfrm>
            <a:off x="152280" y="228600"/>
            <a:ext cx="350532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276720"/>
            <a:ext cx="327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Bi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bird/quai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267440" cy="2514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29200" y="3429000"/>
            <a:ext cx="3809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F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flower/californ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38280" y="4267080"/>
            <a:ext cx="1416240" cy="243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91120" y="5867280"/>
            <a:ext cx="4647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lifornia 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/22/12, http://www.50states.com/tree/californ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8954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B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048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’s State Fl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5:23Z</dcterms:created>
  <dc:creator>install</dc:creator>
  <dc:description/>
  <dc:language>en-US</dc:language>
  <cp:lastModifiedBy>install</cp:lastModifiedBy>
  <dcterms:modified xsi:type="dcterms:W3CDTF">2012-04-16T13:05:52Z</dcterms:modified>
  <cp:revision>16</cp:revision>
  <dc:subject/>
  <dc:title> </dc:title>
</cp:coreProperties>
</file>